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06A1-5853-4C0E-B5E0-C64873DDAB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86E5-B3AC-4425-87F3-76B9AD8D1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3FDDBB9-FB6F-4CF1-9E1D-BE663973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EEB6-6168-42F9-92D2-3904ECA04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909B-CD55-4472-B3A9-97AD9E5E6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1C27-CFEC-4CEA-9F7B-E3A4AD7B2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9AF8-7B9C-488C-B53D-04625BFE9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D5D3C-B797-4D50-8B2A-2222816B33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8222D-29D7-46EB-81A1-31CBF57625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1077B-129C-4709-A52D-FD694A98AF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EA4B8-50F4-48FC-9675-140377A1A6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D36D4-085E-4254-8CA9-374FA0F784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3EE9B-2777-4539-8437-6B9029CE7D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D19A1-C3E7-4825-862E-355F71DA9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C1BD-812C-46E1-8F6B-E2B9F0328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64EB3-6FE3-4861-B4E5-2BB65B9B43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135CD-978E-4A71-968E-7A4755BE62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2E0B7-1B8F-455A-BA31-6FF872C40F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8BCC3-6238-441B-90E2-8824E5893A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15805-C2A4-4B36-84C4-1089161273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BD88-7273-4DF9-A16E-F7EF1AECAF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AC37-05B8-4587-898B-A19662552A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E4FE-8F46-400A-8AF0-D368F1C4F9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A5F6-8E78-46B0-A652-16F6FFEE57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2502-CEA0-4B05-9756-DD45F7322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60FD-94A6-4EB1-A127-8EE6005EE5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3B47-424F-425C-92B7-B06170B871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93A2-D617-41F3-B76A-7583DEF0DD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AE73-7780-48CC-BEDE-2426F4EF4E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303E-9DAA-4530-8F27-F44E4348A8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8DEB-FD76-455D-A21A-77614020DA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C756-6F5D-4AEF-82DF-C49DB8F999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D3CE-8EC4-40F3-9DE3-E1308FE8FF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08ED-5905-4C28-B836-3641FD2D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515B-5306-4106-A890-98C40843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20D2-1FE8-4765-857A-50DDD67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0953-9254-40E0-B025-8A0F327877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83F9-4054-436A-BDD2-77FA00B8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AD2D-CA53-42E9-9729-EA98B18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2E82-1E55-467C-A07D-EE09C90E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74C6-9892-4239-9D54-676C247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E8D2-D46C-4A24-9539-43E3CDD5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214D-12F7-47C1-BAF5-4D883F91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A868-958B-4C2C-8507-66A7FDD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3D88-98C5-4715-B1D8-793D4A18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9F86-3B54-4CBD-9DCE-D54DC2CB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3CA9-88DB-4E1D-8502-155604D6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BF6E-3E36-4860-B6E2-828F37C8D5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4FFF-7A24-4BE8-8CB3-E45E5BB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A805-9843-4FE4-9020-A0324902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4A8E-32F5-4B37-BB3F-E00E799A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9F1E-B109-4041-A24E-475FCA8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E771-B04E-4E86-9449-4D2794F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4951-0394-4910-A044-DCE42D6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CB0F-6C21-4DC1-94A4-24B1AEFD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85BD-F5AD-43CE-BEAD-B37A3CCD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82F6-163D-49E5-955C-83478BB1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5531-F82A-4D6E-A5CA-1634AF44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77AB-7DE4-4F59-B8C2-203834C55A2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BE72-5C9C-45C5-BD18-8F29B3D0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A7BE4-924F-453A-90AC-0388A2E2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479EF-5096-47BE-9A24-7708B737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BEC9-8D7A-4ED2-B421-981D9ABC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B0528-28A0-42D4-8703-882A30D4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F55C-2EF7-483E-BBBD-0E32A6B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7DFF-5A9E-47AE-AB90-16EFE0F7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F798D-51B9-41B0-A7FF-FF5D4FF3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AEEA-2CCE-4724-B30C-BF73515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B5ED-E33B-45F5-9A31-E984F37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11D5-6920-4BF3-8FD3-7D30274476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65EF-0746-4562-AEE5-B10A067D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F9B4C-4FE5-4071-BFA4-A599C66B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48702-E87C-470D-B263-41EFDE8B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36F0-BD66-42E5-864C-770D9E01E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7130-3D25-4A29-BF8C-EA96B76DD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16C1-37A2-40FC-8B9F-7C9658B2D87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876E-0340-4497-BE55-DE3C76BBD23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49D2-A007-452E-9C6F-E1E27124D3E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CE65-1A6D-4ADF-B039-7E50A58B10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440-E472-40E9-80DB-A62B1CECA7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CFE0-BCCF-4135-BCCB-740F1BAC6D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4800" y="774720"/>
            <a:ext cx="842832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 Guidelines on Paper Review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7 March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Do the Paper/Talk Review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90180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1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Summar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is the problem the paper is trying to solve?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are the key ideas of the paper? Key insights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are the key mechanisms? What is the implementation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are the key results? Key conclusions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2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Strength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most important ones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oes the paper solve the problem well? Is it well written? </a:t>
            </a:r>
            <a:r>
              <a:rPr b="0" lang="is-IS" sz="19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3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Weaknesse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(most important ones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s is where you should </a:t>
            </a:r>
            <a:r>
              <a:rPr b="0" lang="en-US" sz="1900" spc="-1" strike="noStrike">
                <a:solidFill>
                  <a:srgbClr val="ff0000"/>
                </a:solidFill>
                <a:latin typeface="Tahoma"/>
              </a:rPr>
              <a:t>think critically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 Every paper/idea has a weakness. This does not mean the paper is necessarily bad. It means there is room for improvement and future research can accomplish this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4: Can you do (much) better? Present your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thoughts/ide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5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Takeaway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What you learned/enjoyed/disliked? Why?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6: Any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other comment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would like to mak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view should be short and concise (~one page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21CC-C00B-4EED-A23E-738C0FB8681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dvice on Paper/Talk Review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doing the reviews, be very crit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think about better ways of solving the problem or related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 the problem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how things progress in science and engineering (or anywhere), and how you can make big l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critical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 reviews provided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57F-FD34-42C3-B876-45E1DDB0FF6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9:09:31Z</dcterms:created>
  <dc:creator>Onur Mutlu</dc:creator>
  <dc:description/>
  <dc:language>en-US</dc:language>
  <cp:lastModifiedBy>Microsoft Office User</cp:lastModifiedBy>
  <dcterms:modified xsi:type="dcterms:W3CDTF">2019-03-08T11:48:51Z</dcterms:modified>
  <cp:revision>78</cp:revision>
  <dc:subject/>
  <dc:title>18-741  Advanced Computer Architecture Lecture 1: Intro and Basics</dc:title>
</cp:coreProperties>
</file>